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0.gif" ContentType="image/gif"/>
  <Override PartName="/ppt/media/image13.png" ContentType="image/png"/>
  <Override PartName="/ppt/media/image9.png" ContentType="image/png"/>
  <Override PartName="/ppt/media/image12.gif" ContentType="image/gif"/>
  <Override PartName="/ppt/media/image7.gif" ContentType="image/gif"/>
  <Override PartName="/ppt/media/image8.png" ContentType="image/png"/>
  <Override PartName="/ppt/media/image20.gif" ContentType="image/gif"/>
  <Override PartName="/ppt/media/image3.gif" ContentType="image/gif"/>
  <Override PartName="/ppt/media/image16.png" ContentType="image/png"/>
  <Override PartName="/ppt/media/image18.png" ContentType="image/png"/>
  <Override PartName="/ppt/media/image15.gif" ContentType="image/gif"/>
  <Override PartName="/ppt/media/image14.gif" ContentType="image/gif"/>
  <Override PartName="/ppt/media/image17.png" ContentType="image/png"/>
  <Override PartName="/ppt/media/image1.png" ContentType="image/png"/>
  <Override PartName="/ppt/media/image19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133B7-D579-41E0-B996-59AC9EBCC48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You could extend this by adding 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ù and a ? to the list of words, to encourage creation of conversation/dialogu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199B-0633-4F9D-BCA2-01140ACF34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03B2-B1FB-40A8-AAA2-6AF8563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7FD8-A299-4054-BE10-6191CDBC0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0134-0A1A-4115-AB6E-19FA78288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F52F-E10C-4DB2-ABE1-E5874480E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03E4-8988-4AC7-9481-48D51016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729E-3C54-40C9-83DF-CA6F2C496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BEC6-39A2-46FA-A6B2-F7C37F76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AD31-1B4F-4677-97DF-850A5CA83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7D00-4D7E-48FD-89D4-91B1345B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DD02-3931-4CE6-BA35-2D0467640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809-76AE-408C-A4C5-DC6505657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C9BE-011B-4A2D-94D8-9923FE8593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<Relationship Id="rId5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’ 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708200" cy="2276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7435800" y="4581360"/>
            <a:ext cx="1708200" cy="2276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2268360" y="5734080"/>
            <a:ext cx="5543640" cy="934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95280" y="3716280"/>
            <a:ext cx="3240000" cy="26607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preposi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manch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bala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 rot="20548200">
            <a:off x="2666880" y="2014200"/>
            <a:ext cx="381024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La sorcière est </a:t>
            </a:r>
            <a:r>
              <a:rPr b="0" lang="fr-FR" sz="40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le manche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balai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916360" y="1916280"/>
            <a:ext cx="341316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292720" y="1773360"/>
            <a:ext cx="2898720" cy="4032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5840" cy="2276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300720" y="5516640"/>
            <a:ext cx="185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6227640" y="1197000"/>
            <a:ext cx="1428840" cy="27417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900000" y="2276640"/>
            <a:ext cx="3827520" cy="382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252360" y="5661000"/>
            <a:ext cx="1666800" cy="916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007 -0.09387 C 0.13385 -0.09526 0.25816 -0.09642 0.28784 -0.07237 C 0.31736 -0.04832 0.18489 0.01665 0.18784 0.04994 C 0.1908 0.0837 0.29496 0.07884 0.30521 0.12832 C 0.31545 0.17734 0.26076 0.30913 0.24965 0.34728 C 0.23854 0.3859 0.23923 0.35445 0.23854 0.35815 C 0.23819 0.36208 0.24236 0.36694 0.24652 0.37179 E">
                                      <p:cBhvr>
                                        <p:cTn id="116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63640" y="1341360"/>
            <a:ext cx="510084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itrouill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708360" y="3933720"/>
            <a:ext cx="1800360" cy="1617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332000" y="2320920"/>
            <a:ext cx="6335640" cy="3411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3975120" y="54658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52720" y="551664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t noir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ou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tabl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58920" y="1413000"/>
            <a:ext cx="6335640" cy="41036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975120" y="5465880"/>
            <a:ext cx="2397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52720" y="5516640"/>
            <a:ext cx="1628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203640" y="3500280"/>
            <a:ext cx="263844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st le squelett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67280" y="2852280"/>
            <a:ext cx="485928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_ _ _ _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 chaudr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1628640"/>
            <a:ext cx="3311280" cy="43927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164360" y="2781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ù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est le c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4723920"/>
            <a:ext cx="7416720" cy="11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Le chat est </a:t>
            </a: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_ _ __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le manc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à bala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987640" y="4508640"/>
            <a:ext cx="129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0487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 u="sng">
                <a:solidFill>
                  <a:srgbClr val="ff6600"/>
                </a:solidFill>
                <a:uFillTx/>
                <a:latin typeface="Arial"/>
              </a:rPr>
              <a:t>Use these words to make spooky sent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6000" y="1600200"/>
            <a:ext cx="424800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sorciè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quelet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hat noi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mom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fantô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itrou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manc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à bal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a chai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haudr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651280" y="1600200"/>
            <a:ext cx="3035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250920" y="6286680"/>
            <a:ext cx="7704000" cy="5713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57160" cy="1143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8091360" y="5454720"/>
            <a:ext cx="1052640" cy="14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771640" y="333360"/>
            <a:ext cx="3175200" cy="2120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5364000" y="3716280"/>
            <a:ext cx="2232360" cy="2232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31840" y="1936800"/>
            <a:ext cx="203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348000" y="2492280"/>
            <a:ext cx="23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975040" y="27576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508720" y="587700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a mom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87280" y="5805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le squelet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161460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chaudr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308320" y="1600200"/>
            <a:ext cx="45259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 rot="11014200">
            <a:off x="6156360" y="1483920"/>
            <a:ext cx="1371600" cy="244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716360" y="2276640"/>
            <a:ext cx="403884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momi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16360" y="2276640"/>
            <a:ext cx="4038840" cy="38876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580000" y="1413000"/>
            <a:ext cx="2160720" cy="21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 rot="12095400">
            <a:off x="4741200" y="1845720"/>
            <a:ext cx="3313080" cy="280188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a sorcière est </a:t>
            </a: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da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le chaudron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79280" y="3645000"/>
            <a:ext cx="180036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dan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643280" y="2205000"/>
            <a:ext cx="403884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hai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00" y="1628640"/>
            <a:ext cx="320832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omi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cha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932360" y="3212640"/>
            <a:ext cx="1363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20760" cy="295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1619280" y="2133720"/>
            <a:ext cx="2087640" cy="20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 squelette est </a:t>
            </a: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su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la chaise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932360" y="3212640"/>
            <a:ext cx="1363680" cy="9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6600"/>
                </a:solidFill>
                <a:latin typeface="Arial"/>
              </a:rPr>
              <a:t>su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76360" y="2708280"/>
            <a:ext cx="2120760" cy="2951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050920" y="1844640"/>
            <a:ext cx="13716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08:52:18Z</dcterms:created>
  <dc:creator>Jo Rhys-Jones</dc:creator>
  <dc:description/>
  <dc:language>en-US</dc:language>
  <cp:lastModifiedBy>Jo Rhys-Jones</cp:lastModifiedBy>
  <dcterms:modified xsi:type="dcterms:W3CDTF">2007-10-20T10:22:44Z</dcterms:modified>
  <cp:revision>13</cp:revision>
  <dc:subject/>
  <dc:title>L’ Halloween</dc:title>
</cp:coreProperties>
</file>